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E55-AEB6-43BC-8D0E-B180B3F9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DAC-FAC7-4ADA-8494-950591E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E39-C095-4A03-9B52-11F26942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053-FCB2-4511-A194-440BADDC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78F-4288-4847-A32B-717162F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C8A-EA90-46A2-8314-027C0F04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68C-DC28-48BD-A79B-649BEA90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0D6-FDBA-4EE7-BDD4-F218A9C8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F69-1E6D-42C5-8E39-199C4C3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E51-F925-4ABC-A2AD-86F6585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D2F-51C6-4259-A801-3B14B5F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223-591E-4CD3-87B8-E0A0F6B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F79F-0159-4D26-91FA-1E5D96670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7242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762120"/>
            <a:ext cx="5715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48640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Ja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118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118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4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17"/>
            </a:gs>
            <a:gs pos="50000">
              <a:srgbClr val="ccff33"/>
            </a:gs>
            <a:gs pos="100000">
              <a:srgbClr val="5e751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ade"/>
          <p:cNvPicPr/>
          <p:nvPr/>
        </p:nvPicPr>
        <p:blipFill>
          <a:blip r:embed="rId1"/>
          <a:stretch/>
        </p:blipFill>
        <p:spPr>
          <a:xfrm>
            <a:off x="1447920" y="380880"/>
            <a:ext cx="563868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5486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5627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3341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bert C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28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0000"/>
            </a:gs>
            <a:gs pos="50000">
              <a:srgbClr val="ff0000"/>
            </a:gs>
            <a:gs pos="100000">
              <a:srgbClr val="61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was invented in 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ined instant notoriety when the “Florida Gators” crdited the drink with their first orange bowl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came a household drink when NFL teams pour a jug of Gatorade over coaches when they win the superb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is made up of water, sugar,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 in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rained at the university of Texas Medic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partnered with Stokly-Van Camp who mass-produced an distributed the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working as a medical researcher at U.O.F. (University of Florid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continues to work as a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4:28Z</dcterms:created>
  <dc:creator>install</dc:creator>
  <dc:description/>
  <dc:language>en-US</dc:language>
  <cp:lastModifiedBy>install</cp:lastModifiedBy>
  <dcterms:modified xsi:type="dcterms:W3CDTF">2011-06-01T17:35:43Z</dcterms:modified>
  <cp:revision>10</cp:revision>
  <dc:subject/>
  <dc:title>Slide 1</dc:title>
</cp:coreProperties>
</file>